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4FC-FB07-41D3-A19F-3293B81E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1C6-52CE-4C8A-B464-36F91E3A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2A8-2521-4F07-A88F-52932644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F14-0014-40DD-A6B5-3BC0B1E5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727-A0C6-4E0F-86CD-3763B13A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64F-689A-40BE-AC6C-D6B6AEC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122-80A5-4D7E-937D-2A9FB1AB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1D6-1477-4FF4-8353-3609EDF2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CBA-11B5-43BF-B603-B330E7EC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0AE-97C5-42E4-B512-D6DD440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0BC-D947-4B0E-850A-3DA5C0F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977-DBD0-4B75-9A01-848CB908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6433-6184-4227-B4F4-F1542772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berbullying 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895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4:54:32Z</dcterms:created>
  <dc:creator>dwilliams2</dc:creator>
  <dc:description/>
  <dc:language>en-US</dc:language>
  <cp:lastModifiedBy>dwilliams2</cp:lastModifiedBy>
  <dcterms:modified xsi:type="dcterms:W3CDTF">2012-11-05T14:54:40Z</dcterms:modified>
  <cp:revision>1</cp:revision>
  <dc:subject/>
  <dc:title>Cyberbullying Prevention</dc:title>
</cp:coreProperties>
</file>